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0108-6282-4AEC-94BD-A1212FB10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B68B-2D07-4A49-AA6A-1560920D1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6DC6-9833-461A-B7F1-4812130ED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F470-5BB3-4925-BC5C-FB5770659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0012-F465-48F5-8CE1-7719E15FF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BFE7-E620-4280-A520-3AE55285B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55D1-CD48-494A-A14A-7102192C3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EDF1-1C86-4882-B6C1-72228E14C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290B-79A5-4980-9D04-34289E250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FCA8-F2C0-4D2B-9BBE-8A168DDDB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2B6C-A91B-4225-8A08-0B9A4F542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17C5-5AAD-4C90-BDD3-936296C2A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D4893-92D6-4A06-9AD9-066B23C945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LSY97—Wave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3520" y="1676520"/>
          <a:ext cx="7924680" cy="3684600"/>
        </p:xfrm>
        <a:graphic>
          <a:graphicData uri="http://schemas.openxmlformats.org/drawingml/2006/table">
            <a:tbl>
              <a:tblPr/>
              <a:tblGrid>
                <a:gridCol w="1576440"/>
                <a:gridCol w="887400"/>
                <a:gridCol w="736560"/>
                <a:gridCol w="609480"/>
                <a:gridCol w="609480"/>
                <a:gridCol w="762120"/>
                <a:gridCol w="609480"/>
                <a:gridCol w="609840"/>
                <a:gridCol w="838080"/>
                <a:gridCol w="685800"/>
              </a:tblGrid>
              <a:tr h="272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und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und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und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ma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ma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ma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samp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9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oss-sectional samp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-black, non-Hispan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lack, non-Hispan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span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x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pplemental samp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lack, non-Hispan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span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x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3809880" y="2209680"/>
            <a:ext cx="533520" cy="381240"/>
          </a:xfrm>
          <a:prstGeom prst="ellipse">
            <a:avLst/>
          </a:prstGeom>
          <a:solidFill>
            <a:srgbClr val="bbe0e3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14600" y="2209680"/>
            <a:ext cx="533520" cy="381240"/>
          </a:xfrm>
          <a:prstGeom prst="ellipse">
            <a:avLst/>
          </a:prstGeom>
          <a:solidFill>
            <a:srgbClr val="bbe0e3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24080" y="2209680"/>
            <a:ext cx="533520" cy="381240"/>
          </a:xfrm>
          <a:prstGeom prst="ellipse">
            <a:avLst/>
          </a:prstGeom>
          <a:solidFill>
            <a:srgbClr val="bbe0e3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33720" y="1676520"/>
            <a:ext cx="2209680" cy="3657600"/>
          </a:xfrm>
          <a:prstGeom prst="rect">
            <a:avLst/>
          </a:prstGeom>
          <a:solidFill>
            <a:srgbClr val="808080">
              <a:alpha val="1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0" y="1676520"/>
            <a:ext cx="1752480" cy="304560"/>
          </a:xfrm>
          <a:prstGeom prst="ellipse">
            <a:avLst/>
          </a:prstGeom>
          <a:solidFill>
            <a:srgbClr val="ff66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064520" y="836640"/>
            <a:ext cx="765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ather Monitor – Father Type by Father’s Edu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533520" y="2351160"/>
          <a:ext cx="7829280" cy="3529080"/>
        </p:xfrm>
        <a:graphic>
          <a:graphicData uri="http://schemas.openxmlformats.org/drawingml/2006/table">
            <a:tbl>
              <a:tblPr/>
              <a:tblGrid>
                <a:gridCol w="860400"/>
                <a:gridCol w="696960"/>
                <a:gridCol w="696600"/>
                <a:gridCol w="696960"/>
                <a:gridCol w="696960"/>
                <a:gridCol w="696960"/>
                <a:gridCol w="696960"/>
                <a:gridCol w="696960"/>
                <a:gridCol w="696960"/>
                <a:gridCol w="696960"/>
                <a:gridCol w="696600"/>
              </a:tblGrid>
              <a:tr h="261360"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ther’s Educ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io-Fath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ep fath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ha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ther-lik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IT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IT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IT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IT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IT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s than HS gra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6600cc"/>
                          </a:solidFill>
                          <a:latin typeface="Arial"/>
                          <a:ea typeface="Times New Roman"/>
                        </a:rPr>
                        <a:t>7.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6.4**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6.53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igh school gra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6600cc"/>
                          </a:solidFill>
                          <a:latin typeface="Arial"/>
                          <a:ea typeface="Times New Roman"/>
                        </a:rPr>
                        <a:t>8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6.3**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llege: some thru 4 yea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6600cc"/>
                          </a:solidFill>
                          <a:latin typeface="Arial"/>
                          <a:ea typeface="Times New Roman"/>
                        </a:rPr>
                        <a:t>8.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6.45**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re than 4 years of colle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6600cc"/>
                          </a:solidFill>
                          <a:latin typeface="Arial"/>
                          <a:ea typeface="Times New Roman"/>
                        </a:rPr>
                        <a:t>9.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6600cc"/>
                          </a:solidFill>
                          <a:latin typeface="Arial"/>
                          <a:ea typeface="Times New Roman"/>
                        </a:rPr>
                        <a:t>8.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5*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61*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"/>
          <p:cNvSpPr/>
          <p:nvPr/>
        </p:nvSpPr>
        <p:spPr>
          <a:xfrm>
            <a:off x="0" y="504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124080"/>
            <a:ext cx="838080" cy="2590920"/>
          </a:xfrm>
          <a:prstGeom prst="ellipse">
            <a:avLst/>
          </a:prstGeom>
          <a:solidFill>
            <a:srgbClr val="bbe0e3">
              <a:alpha val="16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438200" y="6248520"/>
            <a:ext cx="320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More educated bio-dads monitor 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2514600" y="5105520"/>
            <a:ext cx="38088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76720" y="3276720"/>
            <a:ext cx="838080" cy="2590560"/>
          </a:xfrm>
          <a:prstGeom prst="ellipse">
            <a:avLst/>
          </a:prstGeom>
          <a:solidFill>
            <a:srgbClr val="bbe0e3">
              <a:alpha val="16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3885840" y="1752480"/>
            <a:ext cx="114300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09000" y="1219320"/>
            <a:ext cx="6423120" cy="703800"/>
          </a:xfrm>
          <a:prstGeom prst="rect">
            <a:avLst/>
          </a:prstGeom>
          <a:solidFill>
            <a:srgbClr val="ff0000">
              <a:alpha val="18000"/>
            </a:srgbClr>
          </a:solidFill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tep fathers monitor far less than bio-dads—regardl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of education leve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76520" y="2971800"/>
            <a:ext cx="5410080" cy="1066680"/>
          </a:xfrm>
          <a:prstGeom prst="ellipse">
            <a:avLst/>
          </a:prstGeom>
          <a:solidFill>
            <a:srgbClr val="bbe0e3">
              <a:alpha val="22000"/>
            </a:srgbClr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6172200"/>
            <a:ext cx="1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57800" y="5942160"/>
            <a:ext cx="3429000" cy="916920"/>
          </a:xfrm>
          <a:prstGeom prst="rect">
            <a:avLst/>
          </a:prstGeom>
          <a:solidFill>
            <a:srgbClr val="ff0000">
              <a:alpha val="20000"/>
            </a:srgbClr>
          </a:solidFill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io-dads (lower ed) monitor far more than do others except father like 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 flipV="1">
            <a:off x="5334120" y="4038480"/>
            <a:ext cx="30456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6172200"/>
            <a:ext cx="3200400" cy="457200"/>
          </a:xfrm>
          <a:prstGeom prst="rect">
            <a:avLst/>
          </a:prstGeom>
          <a:solidFill>
            <a:srgbClr val="ff0000">
              <a:alpha val="15000"/>
            </a:srgbClr>
          </a:solidFill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2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3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3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3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3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445040" y="1446480"/>
            <a:ext cx="667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ather Monitor – Father Type by Sex of Chi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90880" y="2503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762120" y="2778120"/>
          <a:ext cx="7600680" cy="2003400"/>
        </p:xfrm>
        <a:graphic>
          <a:graphicData uri="http://schemas.openxmlformats.org/drawingml/2006/table">
            <a:tbl>
              <a:tblPr/>
              <a:tblGrid>
                <a:gridCol w="631800"/>
                <a:gridCol w="696960"/>
                <a:gridCol w="696600"/>
                <a:gridCol w="696960"/>
                <a:gridCol w="696960"/>
                <a:gridCol w="696960"/>
                <a:gridCol w="696960"/>
                <a:gridCol w="696960"/>
                <a:gridCol w="696960"/>
                <a:gridCol w="696960"/>
                <a:gridCol w="696600"/>
              </a:tblGrid>
              <a:tr h="261360"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x of Chil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io-Fath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ep fath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ha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ther-lik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IT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IT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IT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IT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IT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9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1**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8**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ma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8**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5*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44*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7*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>
            <a:off x="0" y="461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057400" y="3581280"/>
            <a:ext cx="609480" cy="838440"/>
          </a:xfrm>
          <a:prstGeom prst="ellipse">
            <a:avLst/>
          </a:prstGeom>
          <a:solidFill>
            <a:srgbClr val="ff0000">
              <a:alpha val="26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429000" y="3581280"/>
            <a:ext cx="609480" cy="838440"/>
          </a:xfrm>
          <a:prstGeom prst="ellipse">
            <a:avLst/>
          </a:prstGeom>
          <a:solidFill>
            <a:srgbClr val="ffff00">
              <a:alpha val="26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581280"/>
            <a:ext cx="609480" cy="838440"/>
          </a:xfrm>
          <a:prstGeom prst="ellipse">
            <a:avLst/>
          </a:prstGeom>
          <a:solidFill>
            <a:srgbClr val="ffff00">
              <a:alpha val="26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362320" y="2819520"/>
            <a:ext cx="2819160" cy="533160"/>
          </a:xfrm>
          <a:custGeom>
            <a:avLst/>
            <a:gdLst>
              <a:gd name="textAreaLeft" fmla="*/ 493200 w 2819160"/>
              <a:gd name="textAreaRight" fmla="*/ 2044080 w 2819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657600"/>
            <a:ext cx="609480" cy="838080"/>
          </a:xfrm>
          <a:prstGeom prst="ellipse">
            <a:avLst/>
          </a:prstGeom>
          <a:solidFill>
            <a:srgbClr val="ff0000">
              <a:alpha val="26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90920" y="2971800"/>
            <a:ext cx="4572000" cy="609480"/>
          </a:xfrm>
          <a:custGeom>
            <a:avLst/>
            <a:gdLst>
              <a:gd name="textAreaLeft" fmla="*/ 799920 w 4572000"/>
              <a:gd name="textAreaRight" fmla="*/ 3314880 w 457200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68680" y="5065560"/>
            <a:ext cx="7092000" cy="642600"/>
          </a:xfrm>
          <a:prstGeom prst="rect">
            <a:avLst/>
          </a:prstGeom>
          <a:solidFill>
            <a:srgbClr val="ff0000">
              <a:alpha val="19000"/>
            </a:srgbClr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ere is no difference with regard to gender of child and home m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athers monitor– across types of f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95600" y="5867280"/>
            <a:ext cx="7815960" cy="368280"/>
          </a:xfrm>
          <a:prstGeom prst="rect">
            <a:avLst/>
          </a:prstGeom>
          <a:solidFill>
            <a:srgbClr val="ff0000">
              <a:alpha val="19000"/>
            </a:srgbClr>
          </a:solidFill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io- dads are reported to monitor significantly more than step or cohab 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508040" y="63612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073240" y="6284880"/>
            <a:ext cx="6686640" cy="368280"/>
          </a:xfrm>
          <a:prstGeom prst="rect">
            <a:avLst/>
          </a:prstGeom>
          <a:solidFill>
            <a:srgbClr val="ff0000">
              <a:alpha val="18000"/>
            </a:srgbClr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owever, bio-dads are not diff then father-like men in this reg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753480" y="913320"/>
            <a:ext cx="791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ild’s Affection for Father – Father Type by Father’s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090880" y="2076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304920" y="2286000"/>
          <a:ext cx="7829280" cy="3529080"/>
        </p:xfrm>
        <a:graphic>
          <a:graphicData uri="http://schemas.openxmlformats.org/drawingml/2006/table">
            <a:tbl>
              <a:tblPr/>
              <a:tblGrid>
                <a:gridCol w="860400"/>
                <a:gridCol w="696960"/>
                <a:gridCol w="696600"/>
                <a:gridCol w="696960"/>
                <a:gridCol w="696960"/>
                <a:gridCol w="696960"/>
                <a:gridCol w="696960"/>
                <a:gridCol w="696960"/>
                <a:gridCol w="696960"/>
                <a:gridCol w="696960"/>
                <a:gridCol w="696600"/>
              </a:tblGrid>
              <a:tr h="261360"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ther’s Educ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io-Fath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ep fath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ha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ther-lik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ther Affec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ther Affec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ther Affec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ther Affec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ther Affec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s that HS gra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7**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igh school gra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8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4**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/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/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llege: some thru 4 yea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4**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/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/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/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/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re than 4 years of colle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/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/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/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/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.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52*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61*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" name=""/>
          <p:cNvSpPr/>
          <p:nvPr/>
        </p:nvSpPr>
        <p:spPr>
          <a:xfrm>
            <a:off x="0" y="504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676520" y="3124080"/>
            <a:ext cx="990360" cy="2895840"/>
          </a:xfrm>
          <a:prstGeom prst="ellipse">
            <a:avLst/>
          </a:prstGeom>
          <a:solidFill>
            <a:srgbClr val="ff0000">
              <a:alpha val="1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84240" y="1905120"/>
            <a:ext cx="1697040" cy="1523880"/>
          </a:xfrm>
          <a:custGeom>
            <a:avLst/>
            <a:gdLst/>
            <a:ahLst/>
            <a:rect l="l" t="t" r="r" b="b"/>
            <a:pathLst>
              <a:path w="936" h="1173">
                <a:moveTo>
                  <a:pt x="936" y="0"/>
                </a:moveTo>
                <a:cubicBezTo>
                  <a:pt x="803" y="49"/>
                  <a:pt x="260" y="101"/>
                  <a:pt x="130" y="297"/>
                </a:cubicBezTo>
                <a:cubicBezTo>
                  <a:pt x="0" y="493"/>
                  <a:pt x="152" y="991"/>
                  <a:pt x="157" y="1173"/>
                </a:cubicBezTo>
              </a:path>
            </a:pathLst>
          </a:custGeom>
          <a:noFill/>
          <a:ln w="44280">
            <a:solidFill>
              <a:srgbClr val="ff0000"/>
            </a:solidFill>
            <a:prstDash val="lgDash"/>
            <a:round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505320" y="1600200"/>
            <a:ext cx="2895480" cy="520200"/>
          </a:xfrm>
          <a:prstGeom prst="rect">
            <a:avLst/>
          </a:prstGeom>
          <a:solidFill>
            <a:srgbClr val="ff0000">
              <a:alpha val="18000"/>
            </a:srgbClr>
          </a:solidFill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Father with higher ed--- reported to be liked more by te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048120" y="3200400"/>
            <a:ext cx="990360" cy="2895480"/>
          </a:xfrm>
          <a:prstGeom prst="ellipse">
            <a:avLst/>
          </a:prstGeom>
          <a:solidFill>
            <a:srgbClr val="ff0000">
              <a:alpha val="1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76720" y="1752480"/>
            <a:ext cx="3276360" cy="2210040"/>
          </a:xfrm>
          <a:custGeom>
            <a:avLst/>
            <a:gdLst/>
            <a:ahLst/>
            <a:rect l="l" t="t" r="r" b="b"/>
            <a:pathLst>
              <a:path w="936" h="1173">
                <a:moveTo>
                  <a:pt x="936" y="0"/>
                </a:moveTo>
                <a:cubicBezTo>
                  <a:pt x="803" y="49"/>
                  <a:pt x="260" y="101"/>
                  <a:pt x="130" y="297"/>
                </a:cubicBezTo>
                <a:cubicBezTo>
                  <a:pt x="0" y="493"/>
                  <a:pt x="152" y="991"/>
                  <a:pt x="157" y="1173"/>
                </a:cubicBezTo>
              </a:path>
            </a:pathLst>
          </a:custGeom>
          <a:noFill/>
          <a:ln w="44280">
            <a:solidFill>
              <a:srgbClr val="ff0000"/>
            </a:solidFill>
            <a:prstDash val="lgDash"/>
            <a:round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29400" y="1447920"/>
            <a:ext cx="2133720" cy="733320"/>
          </a:xfrm>
          <a:prstGeom prst="rect">
            <a:avLst/>
          </a:prstGeom>
          <a:solidFill>
            <a:srgbClr val="ff0000">
              <a:alpha val="19000"/>
            </a:srgbClr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Step Fathers –liked less than bio regardless of income or edu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00600" y="989280"/>
            <a:ext cx="838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hild’s Affection for Father – Father type by Sex of Chi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090880" y="2503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609480" y="2778120"/>
          <a:ext cx="7753320" cy="1836720"/>
        </p:xfrm>
        <a:graphic>
          <a:graphicData uri="http://schemas.openxmlformats.org/drawingml/2006/table">
            <a:tbl>
              <a:tblPr/>
              <a:tblGrid>
                <a:gridCol w="784440"/>
                <a:gridCol w="696960"/>
                <a:gridCol w="696600"/>
                <a:gridCol w="696960"/>
                <a:gridCol w="696960"/>
                <a:gridCol w="696960"/>
                <a:gridCol w="696960"/>
                <a:gridCol w="696960"/>
                <a:gridCol w="696960"/>
                <a:gridCol w="696960"/>
                <a:gridCol w="696600"/>
              </a:tblGrid>
              <a:tr h="261360"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io-Fath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ep fath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ha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ther-lik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ther Affec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ther Affec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ther Affec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ther Affec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ther Affec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9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8**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0**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ma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2**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6.6**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.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51*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32*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7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8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0" y="461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3581280"/>
            <a:ext cx="609480" cy="1219320"/>
          </a:xfrm>
          <a:prstGeom prst="ellipse">
            <a:avLst/>
          </a:prstGeom>
          <a:solidFill>
            <a:srgbClr val="ff0000">
              <a:alpha val="19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248520" y="3581280"/>
            <a:ext cx="609480" cy="1219320"/>
          </a:xfrm>
          <a:prstGeom prst="ellipse">
            <a:avLst/>
          </a:prstGeom>
          <a:solidFill>
            <a:srgbClr val="ff0000">
              <a:alpha val="19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3581280"/>
            <a:ext cx="609480" cy="1219320"/>
          </a:xfrm>
          <a:prstGeom prst="ellipse">
            <a:avLst/>
          </a:prstGeom>
          <a:solidFill>
            <a:srgbClr val="ff0000">
              <a:alpha val="19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5410080" y="4343400"/>
            <a:ext cx="76320" cy="1295280"/>
          </a:xfrm>
          <a:prstGeom prst="line">
            <a:avLst/>
          </a:prstGeom>
          <a:ln w="73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137120" y="5554800"/>
            <a:ext cx="3254400" cy="733320"/>
          </a:xfrm>
          <a:prstGeom prst="rect">
            <a:avLst/>
          </a:prstGeom>
          <a:solidFill>
            <a:srgbClr val="ff0000">
              <a:alpha val="19000"/>
            </a:srgbClr>
          </a:solidFill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Cohab fathers are seriously disliked by female teens compared to other grou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38280" y="1603440"/>
            <a:ext cx="4324320" cy="1979640"/>
          </a:xfrm>
          <a:custGeom>
            <a:avLst/>
            <a:gdLst/>
            <a:ahLst/>
            <a:rect l="l" t="t" r="r" b="b"/>
            <a:pathLst>
              <a:path w="2724" h="1247">
                <a:moveTo>
                  <a:pt x="0" y="1246"/>
                </a:moveTo>
                <a:cubicBezTo>
                  <a:pt x="73" y="1063"/>
                  <a:pt x="44" y="300"/>
                  <a:pt x="439" y="150"/>
                </a:cubicBezTo>
                <a:cubicBezTo>
                  <a:pt x="834" y="0"/>
                  <a:pt x="2022" y="165"/>
                  <a:pt x="2373" y="348"/>
                </a:cubicBezTo>
                <a:cubicBezTo>
                  <a:pt x="2724" y="531"/>
                  <a:pt x="2509" y="1060"/>
                  <a:pt x="2544" y="1247"/>
                </a:cubicBezTo>
              </a:path>
            </a:pathLst>
          </a:custGeom>
          <a:noFill/>
          <a:ln w="507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3581280"/>
            <a:ext cx="609480" cy="1219320"/>
          </a:xfrm>
          <a:prstGeom prst="ellipse">
            <a:avLst/>
          </a:prstGeom>
          <a:solidFill>
            <a:srgbClr val="ff0000">
              <a:alpha val="19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362320" y="4724280"/>
            <a:ext cx="1295280" cy="330480"/>
          </a:xfrm>
          <a:custGeom>
            <a:avLst/>
            <a:gdLst/>
            <a:ahLst/>
            <a:rect l="l" t="t" r="r" b="b"/>
            <a:pathLst>
              <a:path w="816" h="208">
                <a:moveTo>
                  <a:pt x="0" y="48"/>
                </a:moveTo>
                <a:cubicBezTo>
                  <a:pt x="66" y="73"/>
                  <a:pt x="260" y="208"/>
                  <a:pt x="396" y="200"/>
                </a:cubicBezTo>
                <a:cubicBezTo>
                  <a:pt x="532" y="192"/>
                  <a:pt x="729" y="42"/>
                  <a:pt x="816" y="0"/>
                </a:cubicBezTo>
              </a:path>
            </a:pathLst>
          </a:custGeom>
          <a:noFill/>
          <a:ln w="50760">
            <a:solidFill>
              <a:srgbClr val="ff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27360" y="5065560"/>
            <a:ext cx="2135880" cy="642600"/>
          </a:xfrm>
          <a:prstGeom prst="rect">
            <a:avLst/>
          </a:prstGeom>
          <a:solidFill>
            <a:srgbClr val="ff0000">
              <a:alpha val="19000"/>
            </a:srgbClr>
          </a:solidFill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Males report mo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affection for fa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57760" y="5827680"/>
            <a:ext cx="2754720" cy="642600"/>
          </a:xfrm>
          <a:prstGeom prst="rect">
            <a:avLst/>
          </a:prstGeom>
          <a:solidFill>
            <a:srgbClr val="ff0000">
              <a:alpha val="17000"/>
            </a:srgbClr>
          </a:solidFill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Bio-dads are liked f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more, generally than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4114800"/>
            <a:ext cx="685800" cy="228600"/>
          </a:xfrm>
          <a:prstGeom prst="ellipse">
            <a:avLst/>
          </a:prstGeom>
          <a:solidFill>
            <a:srgbClr val="bbe0e3">
              <a:alpha val="18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881320" y="1560600"/>
            <a:ext cx="3137400" cy="642600"/>
          </a:xfrm>
          <a:prstGeom prst="rect">
            <a:avLst/>
          </a:prstGeom>
          <a:solidFill>
            <a:srgbClr val="ff0000">
              <a:alpha val="19000"/>
            </a:srgbClr>
          </a:solidFill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Bio-dads are liked ab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The same as father-like m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3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0" dur="2000" fill="hold"/>
                                        <p:tgtEl>
                                          <p:spTgt spid="1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517760" y="898200"/>
            <a:ext cx="6656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ather Supports Mother – Father type by Age of Chi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81120" y="2100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90600" y="2374920"/>
          <a:ext cx="8362800" cy="2093760"/>
        </p:xfrm>
        <a:graphic>
          <a:graphicData uri="http://schemas.openxmlformats.org/drawingml/2006/table">
            <a:tbl>
              <a:tblPr/>
              <a:tblGrid>
                <a:gridCol w="1393920"/>
                <a:gridCol w="696960"/>
                <a:gridCol w="696600"/>
                <a:gridCol w="696960"/>
                <a:gridCol w="696960"/>
                <a:gridCol w="696960"/>
                <a:gridCol w="696960"/>
                <a:gridCol w="696960"/>
                <a:gridCol w="696960"/>
                <a:gridCol w="696960"/>
                <a:gridCol w="696600"/>
              </a:tblGrid>
              <a:tr h="261360"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ge of Chil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io-Fath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ep fath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ha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ther-lik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pports moth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pports moth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pports moth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pports moth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pports moth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s than 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.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 or old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.9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.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.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.9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"/>
          <p:cNvSpPr/>
          <p:nvPr/>
        </p:nvSpPr>
        <p:spPr>
          <a:xfrm>
            <a:off x="392040" y="45136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429000"/>
            <a:ext cx="609480" cy="914400"/>
          </a:xfrm>
          <a:prstGeom prst="ellipse">
            <a:avLst/>
          </a:prstGeom>
          <a:solidFill>
            <a:srgbClr val="ff0000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86200" y="3429000"/>
            <a:ext cx="609480" cy="914400"/>
          </a:xfrm>
          <a:prstGeom prst="ellipse">
            <a:avLst/>
          </a:prstGeom>
          <a:solidFill>
            <a:srgbClr val="ff0000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819520" y="4343400"/>
            <a:ext cx="457200" cy="76212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3276720" y="4343040"/>
            <a:ext cx="761760" cy="762120"/>
          </a:xfrm>
          <a:prstGeom prst="line">
            <a:avLst/>
          </a:prstGeom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33720" y="5257800"/>
            <a:ext cx="5486400" cy="916920"/>
          </a:xfrm>
          <a:prstGeom prst="rect">
            <a:avLst/>
          </a:prstGeom>
          <a:solidFill>
            <a:srgbClr val="ff0000">
              <a:alpha val="15000"/>
            </a:srgbClr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Teens with bio, step, or cohab men in the house, see these men about equally in supporting their moth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Construct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Father Typ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taken from NLSY cod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-fa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Father (adoptive or non-adopti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hab (Mother’s resident boyfrien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ther Like (A relative who is like a father to you-grandfather- uncle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oster parents omitt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Measures of Father Involveme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Monitor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tems and Response Categ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1. How much does he/she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know about your close friends</a:t>
            </a: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that is, who they a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2. How much does he/she know about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your close friends' parent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that is, who they a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3. How much does he/she know about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who you are with when you are not at hom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ow much does she know about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who your teachers are and what you are doing in schoo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Index of Family Routines–Youth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1. In a typical week, how many days from 0 to 7 do you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eat dinner with your fami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2. In a typical week, how many days from 0 to 7 does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housework get don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hen it is supposed to, for example cleaning up after dinner, doing dishes, or taking out the tras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3. In a typical week, how many days from 0 to 7 do you do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something fun a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a family such as play a game, go to a sporting event, go swimming and so fort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4. In a typical week, how many days from 0 to 7 do you do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something religiou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as a family such as go to church, pray or read the scriptures togeth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Child’s Affection for the father </a:t>
            </a: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Sc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I think highly of hi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He is a person I want to be lik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I really enjoy spending time with hi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Father Supports Mother (father involvement includes mother support)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item asked of youth Scores range from 0-24. Higher score is used to indicate that there is a stronger marital relationshi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Father Supports Chi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often does he help you do things that are important to you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akdown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Household monthly income</a:t>
            </a: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Father’s highest grade</a:t>
            </a: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Race</a:t>
            </a: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Sex of Child</a:t>
            </a: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Child’s 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505240" y="2346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368280" y="2085840"/>
          <a:ext cx="8408880" cy="2687760"/>
        </p:xfrm>
        <a:graphic>
          <a:graphicData uri="http://schemas.openxmlformats.org/drawingml/2006/table">
            <a:tbl>
              <a:tblPr/>
              <a:tblGrid>
                <a:gridCol w="1440000"/>
                <a:gridCol w="696960"/>
                <a:gridCol w="696600"/>
                <a:gridCol w="760680"/>
                <a:gridCol w="633240"/>
                <a:gridCol w="696960"/>
                <a:gridCol w="696960"/>
                <a:gridCol w="696960"/>
                <a:gridCol w="696960"/>
                <a:gridCol w="696600"/>
                <a:gridCol w="696960"/>
              </a:tblGrid>
              <a:tr h="261360"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come groups recod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io-Fath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Step fath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ha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ther-lik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IT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IT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IT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IT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IT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3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come LE $15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6600cc"/>
                          </a:solidFill>
                          <a:latin typeface="Arial"/>
                          <a:ea typeface="Times New Roman"/>
                        </a:rPr>
                        <a:t>8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6.4**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6.4*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come=$1501-31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6600cc"/>
                          </a:solidFill>
                          <a:latin typeface="Arial"/>
                          <a:ea typeface="Times New Roman"/>
                        </a:rPr>
                        <a:t>8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6.2**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6.0*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come=$3101-5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6600cc"/>
                          </a:solidFill>
                          <a:latin typeface="Arial"/>
                          <a:ea typeface="Times New Roman"/>
                        </a:rPr>
                        <a:t>8.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6.6**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come GT $51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6600cc"/>
                          </a:solidFill>
                          <a:latin typeface="Arial"/>
                          <a:ea typeface="Times New Roman"/>
                        </a:rPr>
                        <a:t>9.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6.9**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6600cc"/>
                          </a:solidFill>
                          <a:latin typeface="Arial"/>
                          <a:ea typeface="Times New Roman"/>
                        </a:rPr>
                        <a:t>8.5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6.46*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61*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1905120" y="1295280"/>
            <a:ext cx="58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ther Monitors – Father Type by Income-NLSY 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09880" y="2971800"/>
            <a:ext cx="838440" cy="2133720"/>
          </a:xfrm>
          <a:prstGeom prst="ellipse">
            <a:avLst/>
          </a:prstGeom>
          <a:solidFill>
            <a:srgbClr val="ff0000">
              <a:alpha val="2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62320" y="3048120"/>
            <a:ext cx="838080" cy="2133360"/>
          </a:xfrm>
          <a:prstGeom prst="ellipse">
            <a:avLst/>
          </a:prstGeom>
          <a:solidFill>
            <a:srgbClr val="ff0000">
              <a:alpha val="2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629400" y="2895480"/>
            <a:ext cx="838080" cy="2133720"/>
          </a:xfrm>
          <a:prstGeom prst="ellipse">
            <a:avLst/>
          </a:prstGeom>
          <a:solidFill>
            <a:srgbClr val="ff0000">
              <a:alpha val="2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600200" y="4952880"/>
            <a:ext cx="914400" cy="609840"/>
          </a:xfrm>
          <a:prstGeom prst="line">
            <a:avLst/>
          </a:prstGeom>
          <a:ln w="507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95280" y="571500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As men make more --- the are seen as doing more monitoring by their tee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4419720" y="5029200"/>
            <a:ext cx="838080" cy="457200"/>
          </a:xfrm>
          <a:prstGeom prst="line">
            <a:avLst/>
          </a:prstGeom>
          <a:ln w="507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257800" y="5410080"/>
            <a:ext cx="350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However, stepfathers monitor less—regardless of income, ed, et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257800" y="5410080"/>
            <a:ext cx="3429000" cy="1143000"/>
          </a:xfrm>
          <a:prstGeom prst="rect">
            <a:avLst/>
          </a:prstGeom>
          <a:solidFill>
            <a:srgbClr val="ff0000">
              <a:alpha val="16000"/>
            </a:srgbClr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43000" y="5638680"/>
            <a:ext cx="3962520" cy="990720"/>
          </a:xfrm>
          <a:prstGeom prst="rect">
            <a:avLst/>
          </a:prstGeom>
          <a:solidFill>
            <a:srgbClr val="ff0000">
              <a:alpha val="16000"/>
            </a:srgbClr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90920" y="1143000"/>
            <a:ext cx="5638680" cy="1447920"/>
          </a:xfrm>
          <a:custGeom>
            <a:avLst/>
            <a:gdLst>
              <a:gd name="textAreaLeft" fmla="*/ 986760 w 5638680"/>
              <a:gd name="textAreaRight" fmla="*/ 4088160 w 5638680"/>
              <a:gd name="textAreaTop" fmla="*/ 193680 h 1447920"/>
              <a:gd name="textAreaBottom" fmla="*/ 125424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>
              <a:alpha val="20000"/>
            </a:srgbClr>
          </a:solidFill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14600" y="380880"/>
            <a:ext cx="5029200" cy="642600"/>
          </a:xfrm>
          <a:prstGeom prst="rect">
            <a:avLst/>
          </a:prstGeom>
          <a:solidFill>
            <a:srgbClr val="ff0000">
              <a:alpha val="17000"/>
            </a:srgbClr>
          </a:solidFill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Father-like figures are not statistically different from Bio-father –with regard to monitor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752840" y="1141560"/>
            <a:ext cx="563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ather Monitor – Father Type by 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090880" y="2373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57200" y="2647800"/>
          <a:ext cx="7905600" cy="2097360"/>
        </p:xfrm>
        <a:graphic>
          <a:graphicData uri="http://schemas.openxmlformats.org/drawingml/2006/table">
            <a:tbl>
              <a:tblPr/>
              <a:tblGrid>
                <a:gridCol w="936720"/>
                <a:gridCol w="696960"/>
                <a:gridCol w="696600"/>
                <a:gridCol w="696960"/>
                <a:gridCol w="696960"/>
                <a:gridCol w="696960"/>
                <a:gridCol w="696960"/>
                <a:gridCol w="696960"/>
                <a:gridCol w="696960"/>
                <a:gridCol w="696960"/>
                <a:gridCol w="696600"/>
              </a:tblGrid>
              <a:tr h="261360"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io-Fath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ep fath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ha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ther-lik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IT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IT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IT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IT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IT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9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hi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6600cc"/>
                          </a:solidFill>
                          <a:latin typeface="Arial"/>
                          <a:ea typeface="Times New Roman"/>
                        </a:rPr>
                        <a:t>8.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6.6**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7.4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7.2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lac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6600cc"/>
                          </a:solidFill>
                          <a:latin typeface="Arial"/>
                          <a:ea typeface="Times New Roman"/>
                        </a:rPr>
                        <a:t>8.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.6**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.9*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7.3**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ispani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6600cc"/>
                          </a:solidFill>
                          <a:latin typeface="Arial"/>
                          <a:ea typeface="Times New Roman"/>
                        </a:rPr>
                        <a:t>7.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6600cc"/>
                          </a:solidFill>
                          <a:latin typeface="Arial"/>
                          <a:ea typeface="Times New Roman"/>
                        </a:rPr>
                        <a:t>8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4*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7*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"/>
          <p:cNvSpPr/>
          <p:nvPr/>
        </p:nvSpPr>
        <p:spPr>
          <a:xfrm>
            <a:off x="304920" y="4541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05320" y="3962520"/>
            <a:ext cx="609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800600" y="3962520"/>
            <a:ext cx="609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3962520"/>
            <a:ext cx="60984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248520" y="3657600"/>
            <a:ext cx="533160" cy="6858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057400" y="3657600"/>
            <a:ext cx="533520" cy="1143000"/>
          </a:xfrm>
          <a:prstGeom prst="ellipse">
            <a:avLst/>
          </a:prstGeom>
          <a:solidFill>
            <a:srgbClr val="ff0000">
              <a:alpha val="19000"/>
            </a:srgbClr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0400" y="5715000"/>
            <a:ext cx="5334120" cy="916920"/>
          </a:xfrm>
          <a:prstGeom prst="rect">
            <a:avLst/>
          </a:prstGeom>
          <a:solidFill>
            <a:srgbClr val="ff0000">
              <a:alpha val="15000"/>
            </a:srgbClr>
          </a:solidFill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Black fathers were reported to have monitored less than  White- especially if he is a step or cohab f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 flipV="1">
            <a:off x="2362320" y="4724280"/>
            <a:ext cx="838080" cy="990720"/>
          </a:xfrm>
          <a:prstGeom prst="line">
            <a:avLst/>
          </a:prstGeom>
          <a:ln w="507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657600" y="4267080"/>
            <a:ext cx="152280" cy="1371600"/>
          </a:xfrm>
          <a:prstGeom prst="line">
            <a:avLst/>
          </a:prstGeom>
          <a:ln w="507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429000" y="3429000"/>
            <a:ext cx="3733920" cy="1219320"/>
          </a:xfrm>
          <a:prstGeom prst="ellipse">
            <a:avLst/>
          </a:prstGeom>
          <a:solidFill>
            <a:srgbClr val="bbe0e3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175280" y="4913280"/>
            <a:ext cx="4130640" cy="642600"/>
          </a:xfrm>
          <a:prstGeom prst="rect">
            <a:avLst/>
          </a:prstGeom>
          <a:solidFill>
            <a:srgbClr val="ff0000">
              <a:alpha val="17000"/>
            </a:srgbClr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Bio dads were reported to have  monitored more than the other 3 typ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6934320" y="4419720"/>
            <a:ext cx="914400" cy="838080"/>
          </a:xfrm>
          <a:prstGeom prst="line">
            <a:avLst/>
          </a:prstGeom>
          <a:ln w="507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724280" y="3657600"/>
            <a:ext cx="838440" cy="838080"/>
          </a:xfrm>
          <a:prstGeom prst="ellipse">
            <a:avLst/>
          </a:prstGeom>
          <a:solidFill>
            <a:srgbClr val="bbe0e3">
              <a:alpha val="24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508040" y="1712880"/>
            <a:ext cx="374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508040" y="1712880"/>
            <a:ext cx="5502240" cy="642600"/>
          </a:xfrm>
          <a:prstGeom prst="rect">
            <a:avLst/>
          </a:prstGeom>
          <a:solidFill>
            <a:srgbClr val="ff0000">
              <a:alpha val="20000"/>
            </a:srgbClr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White cohabs monitor much more than Black or Hispan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819520" y="2209680"/>
            <a:ext cx="2057400" cy="1600200"/>
          </a:xfrm>
          <a:prstGeom prst="line">
            <a:avLst/>
          </a:prstGeom>
          <a:ln w="507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8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8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7T17:35:02Z</dcterms:created>
  <dc:creator>rdd23</dc:creator>
  <dc:description/>
  <dc:language>en-US</dc:language>
  <cp:lastModifiedBy>Hoda Makar</cp:lastModifiedBy>
  <dcterms:modified xsi:type="dcterms:W3CDTF">2003-11-10T17:24:44Z</dcterms:modified>
  <cp:revision>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690406128</vt:r8>
  </property>
  <property fmtid="{D5CDD505-2E9C-101B-9397-08002B2CF9AE}" pid="3" name="_AuthorEmail">
    <vt:lpwstr>day@byu.edu</vt:lpwstr>
  </property>
  <property fmtid="{D5CDD505-2E9C-101B-9397-08002B2CF9AE}" pid="4" name="_AuthorEmailDisplayName">
    <vt:lpwstr>Randal D. Day</vt:lpwstr>
  </property>
  <property fmtid="{D5CDD505-2E9C-101B-9397-08002B2CF9AE}" pid="5" name="_EmailSubject">
    <vt:lpwstr>Day-Session6</vt:lpwstr>
  </property>
  <property fmtid="{D5CDD505-2E9C-101B-9397-08002B2CF9AE}" pid="6" name="_ReviewingToolsShownOnce">
    <vt:lpwstr/>
  </property>
</Properties>
</file>